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B09F-C91F-4604-90DD-108261A1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BD33-1CCD-47BD-B9E6-861767E7751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0665-F3BF-4B22-98BF-DDC77ABF2B9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F6ED-D7EE-498D-8855-47562DA9FEA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A665-4F23-42A8-8262-51D5E80B22C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204804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80980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760280"/>
            <a:ext cx="235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204804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76028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023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809800"/>
            <a:ext cx="35697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760280"/>
            <a:ext cx="73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04804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68520" indent="-2570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2852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4000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04804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809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68520" indent="-2570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2852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4000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51480" indent="-20556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3000" y="190440"/>
            <a:ext cx="8582040" cy="70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2a5b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 основная общеобразовательная школа №21 им. И.Е. Яковченко х. Первомайского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696080" cy="2743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42a5bc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немотивированных учащихся в условиях малокомплектной школы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019920" y="58672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дготовила учитель хими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Сытник Е.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086600" cy="79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2091e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ый день .уважаемые коллеги!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2809440"/>
            <a:ext cx="7696440" cy="3600360"/>
          </a:xfrm>
          <a:prstGeom prst="rect">
            <a:avLst/>
          </a:prstGeom>
          <a:solidFill>
            <a:srgbClr val="b3d3ea"/>
          </a:solidFill>
          <a:ln w="38160">
            <a:solidFill>
              <a:srgbClr val="0000cc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굴림"/>
              </a:rPr>
              <a:t>Наверное, в каждой школе встречается все больше учеников с очень низким уровнем мотивации. На сегодняшний день я столкнулась с одним классом(8 класс 11 человек все мальчики -2 ОВЗ), в котором у учеников, кроме низкого уровня мотивации учения, низкий уровень воспитанности и дисциплины, это гиперактивные дети, которые не выполняют домашние задания. Как правило, при изучении химии у восьмиклассников есть очень большой интерес к химии, пока у них есть представление об уроках химии, на которых все время что-то взрывается. Но интерес резко сокращается при заучивании знаков химических элементов, формул и решении задач, то есть в условиях каждодневного рутинного труда. Активные методы обучения дают неплохие результаты, но трудности с закреплением материала сводят на нет все усилия</a:t>
            </a: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굴림"/>
              </a:rPr>
              <a:t>.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381600"/>
            <a:ext cx="16574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120" y="36572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е всегда нахожу ответы на эти вопросы. На мой взгляд, не надо каждый раз изобретать велосипед, если он уже давно изобретен до тебя, педали крутятся, есть движение вперед. Я имею ввиду те приемы, которые давно известны всем, дают неплохие результаты, я лищь немного адаптирую их к нашим условиям малокомплекной школы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0" name="Picture 6" descr="Химия. 8 класс - Рудзитис Г.Е., Фельдман Ф.Г."/>
          <p:cNvPicPr/>
          <p:nvPr/>
        </p:nvPicPr>
        <p:blipFill>
          <a:blip r:embed="rId2"/>
          <a:stretch/>
        </p:blipFill>
        <p:spPr>
          <a:xfrm>
            <a:off x="463680" y="237960"/>
            <a:ext cx="2206440" cy="5284800"/>
          </a:xfrm>
          <a:prstGeom prst="rect">
            <a:avLst/>
          </a:prstGeom>
          <a:ln w="0">
            <a:noFill/>
          </a:ln>
        </p:spPr>
      </p:pic>
      <p:pic>
        <p:nvPicPr>
          <p:cNvPr id="91" name="Скругленный прямоугольник 1" descr=""/>
          <p:cNvPicPr/>
          <p:nvPr/>
        </p:nvPicPr>
        <p:blipFill>
          <a:blip r:embed="rId3"/>
          <a:stretch/>
        </p:blipFill>
        <p:spPr>
          <a:xfrm>
            <a:off x="2798640" y="152280"/>
            <a:ext cx="6143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152280"/>
            <a:ext cx="541008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.За неделю предупреждаю о зачете (устно) и даю перечень вопросов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Блок-схема: документ 2"/>
          <p:cNvSpPr/>
          <p:nvPr/>
        </p:nvSpPr>
        <p:spPr>
          <a:xfrm>
            <a:off x="380880" y="1905120"/>
            <a:ext cx="8686800" cy="4952880"/>
          </a:xfrm>
          <a:prstGeom prst="flowChartDocument">
            <a:avLst/>
          </a:prstGeom>
          <a:gradFill rotWithShape="0">
            <a:gsLst>
              <a:gs pos="0">
                <a:srgbClr val="dce3f5"/>
              </a:gs>
              <a:gs pos="100000">
                <a:srgbClr val="c8d3f0"/>
              </a:gs>
            </a:gsLst>
            <a:lin ang="5400000"/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изучает химия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основные правила работы в лаборатори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называется   веществом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ем отличаются чистые вещества от смесей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какие смеси называются однородными? какие – неоднородными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какие способы разделение смесей вам известны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ем физические явления отличаются от химических явлений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такое атомы, молекулы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ем отличаются простые вещества от сложных веществ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называется химическим элементом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показывает относительная атомная масса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называется химической формулой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что показывает относительная молекулярная масса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Понятие валентность, бинарные соединения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52280" y="228600"/>
            <a:ext cx="76201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. Как быть, ученик не только слабомотивированный, но и «неговорящий»? В этом случае предлагаю тестирование с выбором одного правильного ответ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gradFill rotWithShape="0">
            <a:gsLst>
              <a:gs pos="0">
                <a:srgbClr val="cde7ed"/>
              </a:gs>
              <a:gs pos="100000">
                <a:srgbClr val="42a5b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gradFill rotWithShape="0">
            <a:gsLst>
              <a:gs pos="0">
                <a:srgbClr val="cde7ed"/>
              </a:gs>
              <a:gs pos="100000">
                <a:srgbClr val="42a5b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Любой предмет нас окружающий – это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смесь б) вещество в) физическое тело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К веществам относятся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мел б) гвоздь в) железо г) снежинк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Укажите вариант, в котором речь идет о химическом свойстве сахара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белое кристаллическое вещество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при сильном нагревании превращается в уголь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хорошо растворим в вод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Выберите физические явления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плавление алюминия б) образование накипи в чайнике в) испарение воды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) горение угля д) протухание яйц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Выберите чистые вещества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молоко б)кровь в) медь г) сладкий чай д) поваренная соль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. Укажите, где об углероде говорится как о простом веществе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углерод образует простое вещество – алмаз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углерод входит в состав молекул всех органических веществ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углерод хорошо горит в кислороде г)углерод используют широко в металлургии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. Что является признаком химической реакции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изменение агрегатного состояния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выделение тепла и свет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изменение формы и размера вещества г) образование газа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1143000" y="1828800"/>
            <a:ext cx="7162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ри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изучении новой темы даю задание на предыдущем уроке сделать не большое сообщение(например по при изучении кислорода даю задание рассказать про кислород когда и кем открыт нахождение в природе и физические свойства)это тем учащимся у которых оценка 3 но могут на 4,а слабоуспевающим даю другое задание составить план конспект с приведением примеров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28600" y="380880"/>
            <a:ext cx="73915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. Конечно использую на уроках и дифференцированные задания для групп учащихся  с разным уровнем подготовки. При повторении темы «Основные классы неорганических соединений» провожу проверочную работу по уровням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28600" y="2133720"/>
            <a:ext cx="8686800" cy="449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e0e6"/>
              </a:gs>
              <a:gs pos="100000">
                <a:srgbClr val="90d7e0"/>
              </a:gs>
            </a:gsLst>
            <a:lin ang="5400000"/>
          </a:gradFill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Вариант 1. (Включает задания репродуктивного уровня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ставьте пропущенные коэффициенты в следующих уравнениях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1) Zn + O2 → Zn O; 2) Fe + Cl2 → FeCl3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Вариант 2. (Включает задания частично-поискового уровн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знавательной деятельности учащихся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Напишите уравнения, поставьте пропущенные коэффициенты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1) Mg + ? → Mg O; 2) ? + Cl2 → Al Cl3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Вариант 3. (Включает задания исследовательского уровн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познавательной деятельности учащихся). Напишите названия вещест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и уравнения реакций, с помощью которых их можно получить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1) FeCl2 ; 2) ZnCl2 ; 3) P2 O5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06480" algn="just">
              <a:lnSpc>
                <a:spcPct val="115000"/>
              </a:lnSpc>
              <a:tabLst>
                <a:tab algn="l" pos="0"/>
                <a:tab algn="l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43000" y="1967040"/>
            <a:ext cx="7010280" cy="77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В заключении хочу отметить: всем учителям хочется, чтобы их ученики умели самостоятельно мыслить, были коммуникативны, умели высказывать свои мысли и анализировать  чужие и, конечно,  имели стабильные результаты, чтобы все были мотивированными. Но, к сожалению, этого чуда пока не случилось, а поэтому мы будем обмениваться опытом, искать новые приемы и методы, чтобы  на уроках и внеклассных занятиях эффективно обучать немотивированных учащихся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4d4d4d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SmileTemplates.com</dc:creator>
  <dc:description/>
  <dc:language>en-US</dc:language>
  <cp:lastModifiedBy>Пользователь</cp:lastModifiedBy>
  <dcterms:modified xsi:type="dcterms:W3CDTF">2019-10-31T03:39:57Z</dcterms:modified>
  <cp:revision>130</cp:revision>
  <dc:subject/>
  <dc:title>Муниципальное казённое общеобразовательное учреждение основная общеобразовательная школа №21 им. И.Е. Яковченко х. Первомайского</dc:title>
</cp:coreProperties>
</file>